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FAC-CB4E-4A3F-B804-95F3AE68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BBE-1955-413D-9062-006B9EED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B087C-ABC0-45DC-AD00-163F1D59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94D1D-D668-4F12-A92A-589F840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5C980-F507-4DC2-A352-A3056B20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D4089-49BE-4FC3-B44F-59982E91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2A8FE-0952-4710-BB38-BC82CD5D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F1FCB-714E-45D0-91A1-EC7F3521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099C4-ED0F-49AA-AF84-DDEF02C2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A4531-A1B9-46A8-9BC5-9667A0FF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620D1-AE22-42BE-BF62-3397B14A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F31C9-16D1-4B37-A666-B4FCF82B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5EC-1671-468E-889A-7C9D9357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73666-6D8B-4DDA-AAE1-8A89E21A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D8CD6-028E-45F1-A5E5-AB794581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7507D1-DB93-4E7C-855B-DC7802E9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28CAC-E55C-4CC1-97AC-81945487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A33FC-C013-4BD0-AAC2-5FC353B4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7C0E7-FD59-4D19-A605-7CDF8F33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6CC12-311A-48D6-A8F6-C1DFA2A4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BF0C0-DB89-4A8A-AA30-969816F6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04453-152C-4A11-9CE5-2AC8C227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564D0-18BE-42A1-B9B2-5461854F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5EB5-8EFD-4A40-B707-29107F82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EA2DC-1077-47CF-A310-21403EE9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F360B-CA40-4BD0-8100-40463272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2C71B-B55D-4644-A958-D2470905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9FE96-84E8-4456-87D8-5435CBF4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4A00B-0603-4C79-BED0-8E7044F2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F4B35-9A2E-4D47-A63D-8B4D7AFB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FFAA9-3D6D-4DA0-ADDF-76F335EB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1A690-6582-404E-95BC-FB772B34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DB265-68E2-4EA6-9948-CEF3C577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CAC85-5638-4DAE-8527-EC19622A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1C93-7569-45E8-A33F-DE6A953F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ADCF3-EDB9-4F1A-BF89-297939C8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1229A-9C95-4D3A-AD33-56930573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99A6C-6DCE-4CC1-82C0-D78DE989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509F6-2D0E-4868-9142-CBA0906E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486B8-E822-4E72-BBAF-33574462E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07D34-0F0A-4C29-AD7F-BCBE0D1E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0247C-9050-493F-B3E5-8F864193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18C32-96F2-43E0-ABCD-18FA0849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CB78A-2692-4529-B0B4-4F9038CF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84BD6-E3EC-4BA2-A260-3463E7CD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466F-5C56-4487-8B26-D1A9200D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1E645B-3009-4476-96B7-257D37C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E844E-8968-4DFC-8C80-72EC4841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5AEF2F-BCE9-4A5D-B6CA-1A45BA27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ED4BA-736E-4604-83CA-46F2B9F6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60901-DEB7-49CB-863A-BE91F60D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7B9CDC-3BFC-4BF5-A7DB-32AE790B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6E320-9CF9-4CEE-8787-DA88101E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CEB6F-6807-4973-B66E-D9134149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4CE3E-F364-4055-9F78-82886BE4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1C5DC-CB85-458A-B42E-3C7A79C8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28B4-A172-4404-8F90-88BCD69F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A12C4-B738-4A5E-B4D9-4B71D1F4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0BD09-7189-46D5-A2EA-717DE6ED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D646B-97A8-4314-A265-05406B86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F7EE5-5B72-4596-9B8F-9167390B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39DD0-A655-4D01-8896-94BDE649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3CFBC-37D3-4482-9FF9-4434B78CF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DB46B0-82EA-46EC-B5F1-36441AA9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936B5-6449-4A42-9425-D0347804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4B72F-01B2-4987-8FAE-A37042F2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86AB9-899F-4529-B730-4E3B6EA9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2FDE-616A-466F-86EB-077C916D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2D9D8-C06A-4AB2-B8B1-C2457399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EBCBD-0ED6-46E8-B09F-B1E3531F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9468C-CBCA-45C3-8347-A660E690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77A5C-2035-4BE4-B4B9-40333466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5143C-6921-46D4-A0BE-62B441E6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5A6764-B13E-4E24-B9C6-7505FE9A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1F521E-B93C-4AEC-9BBD-A69F451F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8C558-EC4F-4AED-99D6-47C52693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E79BC-E149-459B-A198-88A65419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2E70C7-7789-4BB2-B8BC-BA3117F1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0FAB-01E2-4210-983D-0C7FFF6C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006D6-3595-4798-A139-B10B91C9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BEC43D-F5C4-4743-B812-2D4FB7F7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F43AB9-D7AA-41C9-886F-51A0D5CB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DE076-0FD2-4816-B43D-9886CC91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AFD4D1-C109-4291-8CAF-F81DDB8C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E309B-29DF-4AB9-AC96-7BD0A182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A1E24A-CE9D-4872-AFF6-5F2080BC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880F0A-24F2-445D-AA05-C9D95B1F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576C5-0CBB-4FD1-ACA9-13B6B71D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64AC95-8273-48BC-BB6A-823795C1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005B-C3DE-4E33-8E6B-B2BD4E7A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9F4DB-E7A2-4A47-9AB4-908DDCAF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B3F29D-A623-439D-B3AD-0D59BE6C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61467B-6C80-452B-8508-663BC459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DB5F5C-47C1-41F3-8C68-04B152E4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F716EA-A321-4C99-814D-C5F5A1A3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A81648-83FF-4895-A944-63F6B5D6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A643EC-3889-462A-B7C0-6799E905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145B35-1357-416E-BD16-83122982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D43D69-39C4-4CAC-B5F4-CC7A49C8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37D9DD-98C7-41B6-8163-EF3783E6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8544-EDAD-4BD4-9DB6-73A5D04E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AD3774-7EB2-4434-833A-05F49206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676891-C2F8-4577-A98C-0379A0585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923D43-05E6-49B3-A834-E5A19EC5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2B2C94-75C5-47F8-BD87-81520426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F773C7-3C2A-40D8-8C23-B1F122F4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C4D528-3D44-4104-B307-DC52CD8F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A70D40-24D3-4D57-A7B2-CAAB794B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9060D3-816B-4E99-A684-C38E4DD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FFA80A-EB9A-46E4-B921-7AA97A97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06130D-D61B-4151-977E-17161F86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22C-405B-4EC5-8651-1A5245E0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7AF8-66F1-49B4-BCD2-AAD6A5AA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5CEAFE-A174-4BB8-8C91-77D84A1F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4617D0-432A-404E-A9D8-7B8800F4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D196C-1186-44B3-820D-863AEFA8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CE0A1-2195-46B7-8F0A-52B6DA1F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D41AEA-84D8-4455-B7D3-586E504E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167D4-D82F-4420-B40F-4D9931CB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FD4970-A3B3-4DFA-AB1D-0F9F19BD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8A3FF9-F41C-438C-BE8B-9E97E3CC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135765-4779-4746-AB4E-6F44ED2A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3341F8-E3D5-4DB2-B20D-0AA0C5F2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C7D6-601D-43A3-B593-EDA49006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01B850-488B-4D20-8878-72B23ABD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079D17-AEC6-4E19-B5F1-93DC0C61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AE52A8-548E-46FD-8941-5FE70C93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47DE8A-CD9A-4AEB-9010-1524DF7F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4EEAE1-FC44-43B6-B495-1C6BB520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90EB5D-07C8-4F7B-BBFF-03465B44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F0A297-275D-4BE9-AD40-A6BF70A3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A8E263-C237-4CD6-A85C-DAB07DF9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1EDF80-1BF2-4D94-812D-9F88F63E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0B1281-D82B-47FF-B0A7-AEB79593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60E1-C6BE-4845-B684-31D8D8D1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280784-3AFC-4B17-B701-66B0B04F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C5FC6-0D79-4A30-B305-F39B9F6E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AF1DCA-409F-42D6-AAC6-3865A310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F3C51D-75B2-4107-AC98-D577B22F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DEA7D2-BCA0-4B3B-9E5A-825F15E0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9E5A2B-CC55-410C-AAFC-29E1DC40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0819E-449E-4EA0-B13E-CC5225CC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0F1598-AC93-4F0E-B827-47B67829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527015-3B2E-481C-B09A-FCF9F669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A51E55-5156-40A1-831D-23C74AD0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7EE1-0A82-4709-8CF2-50383C5E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5D1E81-4354-4485-9A2B-3C814D12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D29589-4714-48F9-B6C3-3B07309D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875F9-55BE-4193-8E4F-BD98ADCC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574EA3-89A0-413F-9AAB-F80B9B49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36C570-C2E7-4581-AC34-6D81A94B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B3CE52-F9C1-4D0A-A1A3-70A370AC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1034B3-3EE7-442B-B3A0-7DB2535D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3E1CAA-EA24-47D8-AB77-0B381BC5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AF479B-90E3-4B55-AAF0-CC5E5785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70E858-1823-43CF-BF16-833013A5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A300-7723-48FE-A064-B9325E6A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6E9481-87AC-4D22-B81A-4A9BB50E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049ADD-9D9F-4312-B8CC-C5A3B1AE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EDB6AB-8F55-4A38-B1FE-91BB181E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7085B4-3E56-49CF-8748-11018E0E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4B9E3F-CAF2-46DC-8009-EC368D30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65355B-9EB1-4FE6-858E-35791697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99F29B-E806-4659-800D-F24B92E0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CB3BCD-3711-4073-AA50-D6F230EE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E89BBE-2EFE-48B4-AC55-71475A57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5DD7EB-9EF4-4A43-BFCA-E658A4C3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2345D-BD7B-4A19-A620-5573EA82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AF4F7-D3FA-482B-AF3F-14BC9F2C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E98F1F-EE89-4BC9-AA9C-A7595468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CED1E7-9A31-491D-AFB5-FE7EA0D6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F747-CA67-4993-A316-039792EF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CDAA-14D3-4B59-A44B-EB9DA0D1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4D6A-9CB8-4200-8216-5EFFEF7C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CC1E-70FF-46B2-A679-5CCFAFB8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135-942E-4CEC-8A62-E2F0FAAF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7F697-936A-41E8-A6E8-C9FD3745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27A6A-47C4-4D61-82E8-8923E07D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3CE57-2E3D-4EFB-A532-837F4EF3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6FBD1-B431-4AF3-BE48-1994389F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F157E-6E13-4D4D-A718-13B87DFD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0E43C-0A20-4EA0-8B48-9A3EAB1DD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12017-2992-4242-BCC1-8650B048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161DE-5A31-45E2-BA82-133BE1838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1AB5B-2F67-4735-BF72-76BE55C9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E3E1-C635-4116-8565-D2F07D3E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DA9-1FF2-4093-9091-39561804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BC888-E59F-4F5C-A57E-37572F40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68178-F2A5-4B1B-AF15-154122F6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14150-7B46-4EC3-92B3-210AE5A8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8793A-029C-40E5-9D7E-DDC729FF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AF7E9-381A-4A47-B7F8-2CF3F0F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C785-4138-47A9-83DB-9E545D82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A4F5F-23BA-44D3-8C9C-B4990EEB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522BA-2D29-4879-8F7A-8175A218C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E5BF6-222E-4E9A-8B0C-82C82865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CA88B-B814-4257-B9F5-89EBEEB49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B69-FE45-443B-8308-ACC3E1AD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790BD-13A7-4AC6-A814-5E7C59F5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DD2B0-987B-403A-92AB-F5C5FB69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B240-8371-422E-A50A-9962B461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73764-F0F5-4932-821A-07AE2B9B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79BA9-EA39-4E22-8051-AE1EDD47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16A14-6EAD-446B-990F-8AC7AFA5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C1DBF-2478-495E-8E1B-E9A1404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FF9B2-81B6-4D27-B15E-6D6B84BB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16488-B0E7-4B3F-BC7F-C0B9A1EE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70CAD-D89C-4E44-B9BD-5DEA0D71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F43-6079-4AA3-8665-607FE4C7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99C73-910A-4C39-97B2-362EBECF9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997D3-A5AF-4BBB-9DFA-5C8E7DFA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A9113-4595-41F9-89BE-FCFE111F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6640A-5BAC-4A77-963B-5A1C30A2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3446F-A151-4405-8B33-1DD73BE6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28E32-CE5D-494A-A5E2-60C9D330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9C0DD-DE0E-46A0-84D5-12B2387A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46DC1-76C2-49A5-BC6A-205C9DBE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02215-5C3D-4E96-BCD5-8F75426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B2414-0E9F-4507-A394-FBF603A8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42F-3A24-4D1A-980E-9384C807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8FB52-FF89-4831-8734-D22D71AA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0CEC0-92D1-4B9E-BB6E-D32409F5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2AF24-6019-4320-985A-1458B2580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CC5ED-EA01-4CB9-BD05-59BC9C5D6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4F866-643F-415F-B64B-9C9F3355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F46C6-57BD-4F48-B07C-AD378298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1B769-AE5A-49F5-B2D6-7908E2A0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7E734-862C-4818-93FF-B171D3E4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AB158-D0E0-411A-8D75-4A7AA7D2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50DF2-49A1-4B8F-A215-A3E4787D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AAD-67FB-425E-AA1F-4189B586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1F95A-A0C7-436A-81AF-6509493D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0409E-7C35-4053-AFFC-EFF49229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2C6EA-B633-4625-A5C7-274B7645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57830-2927-40BE-A06A-F52B197E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0C506-D8BC-41C7-8984-0D3BED59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2B2DB-8D8F-443D-8AC9-3635BA51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0BC0F-8471-4AD5-AB8A-B8DEAC89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C5375-389E-4FB2-94B5-A62C25BD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1AAE8-E0AD-462D-9700-0CBAC235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A4E1A-9ED5-4553-AADF-D6862000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16AC-A915-4B06-B7B6-322B0646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B7303-28C7-4638-9819-F52BD983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75C12-040F-4770-8511-BF06FA43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17D3A-CD58-4043-B00B-45908E37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9064F-42EC-430D-9AEC-F32CAC12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814BF-7744-4CBE-B273-3B4A71E2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0D074-99DC-4AED-9487-A241FE0E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A5721-C863-435D-9C35-D7FBD749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5A06A-134F-415D-8604-465E2348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38C6A-0751-4E5C-8DF8-4CA1A1A8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ADC46-0B1B-4063-8D20-CC9B8784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7736-5FD7-403A-AB30-D8D42F003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1787C-FAF0-4C83-8B79-246E98FECC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F9EC-F82D-4983-B1AC-7556B92FF2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9650-B931-4272-9CF2-F1A9DC0EF6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8914-EF60-46FC-819E-2C15FE2A3B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FC53-2A56-473A-B17E-C905E7EB9E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F7C9-D678-4785-9C21-45B6E758ED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E023-4131-421C-B8A4-FECF312BE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F665-D142-43A1-90A8-079D7F1E82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9DE3-5760-40E1-9810-6ED5E771A9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BEEA-3DEF-45E2-BEEB-52584A0910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8730-7B75-4EF0-BCC5-2874286CD5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5DFD-58E2-4559-B96A-BA1AEF7838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11F7-529D-46B3-8D98-B8F3675C5B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06FF-D8BA-4198-B8F5-9B89E1DD40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3F2D-FDE9-42D3-A027-1FE7A55161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3CF4-F17E-4847-A83B-7D802FD750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6508-AD24-4385-8604-406B171492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D68C-F4D8-42E9-B105-70A4544218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8B53-CA26-4862-AE1C-4D6CAA7A4B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7BFB-2141-446B-880A-D55B005320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1739-944D-40B6-93BD-34A581284E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9E31-585F-411C-9B24-D04E4DC776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A35C-9B10-4E0F-B6D5-B4001290A3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B28F-140B-47EB-9F4E-553004BF11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2D07-2771-427F-A29C-33CDF257F0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33EA-2F78-4863-83E0-39B04DD241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1428-7557-4E88-B6FF-528B0EA0D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DB97-1750-45B8-9E49-AEFC886C61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A9ED-9827-4C70-9C84-0736E2D4A0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C530-CFD2-4225-8787-4DD9EFF42D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693B-6F6B-4BDD-B064-89DA63852C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546A-33AA-4454-8D1D-801E9FD229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17EA-DD46-425B-B893-34E2F037C3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C13D-A817-4128-B74A-2EE55468D1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8664-1256-408B-8FB0-14DA4B4573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DB86-B59A-4472-B711-1D670D2E61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EE53-19A3-45C1-917E-E2BC082615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F359-EED9-4DBD-978A-7EB1F2C487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AC1F-5A3E-484F-A068-C2A98A95DA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295360" y="3138480"/>
            <a:ext cx="455328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471600" y="961920"/>
            <a:ext cx="8200800" cy="4934160"/>
          </a:xfrm>
          <a:prstGeom prst="rect">
            <a:avLst/>
          </a:prstGeom>
          <a:ln w="0">
            <a:noFill/>
          </a:ln>
        </p:spPr>
      </p:pic>
      <p:sp>
        <p:nvSpPr>
          <p:cNvPr id="1048" name="矩形 2"/>
          <p:cNvSpPr/>
          <p:nvPr/>
        </p:nvSpPr>
        <p:spPr>
          <a:xfrm>
            <a:off x="928800" y="142884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3"/>
          <p:cNvSpPr/>
          <p:nvPr/>
        </p:nvSpPr>
        <p:spPr>
          <a:xfrm>
            <a:off x="1000080" y="235728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4"/>
          <p:cNvSpPr/>
          <p:nvPr/>
        </p:nvSpPr>
        <p:spPr>
          <a:xfrm>
            <a:off x="1000080" y="278604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5"/>
          <p:cNvSpPr/>
          <p:nvPr/>
        </p:nvSpPr>
        <p:spPr>
          <a:xfrm>
            <a:off x="1000080" y="414324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6"/>
          <p:cNvSpPr/>
          <p:nvPr/>
        </p:nvSpPr>
        <p:spPr>
          <a:xfrm>
            <a:off x="928800" y="507204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90680" y="1171440"/>
            <a:ext cx="81626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296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48680" cy="614376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00080" y="78588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25640" y="1177920"/>
            <a:ext cx="39348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1071720" y="164304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1000080" y="250020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1071720" y="300024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7"/>
          <p:cNvSpPr/>
          <p:nvPr/>
        </p:nvSpPr>
        <p:spPr>
          <a:xfrm>
            <a:off x="1071720" y="385776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"/>
          <p:cNvSpPr/>
          <p:nvPr/>
        </p:nvSpPr>
        <p:spPr>
          <a:xfrm>
            <a:off x="1000080" y="471492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9"/>
          <p:cNvSpPr/>
          <p:nvPr/>
        </p:nvSpPr>
        <p:spPr>
          <a:xfrm>
            <a:off x="1000080" y="564372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0"/>
          <p:cNvSpPr/>
          <p:nvPr/>
        </p:nvSpPr>
        <p:spPr>
          <a:xfrm>
            <a:off x="1071720" y="607212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1"/>
          <p:cNvSpPr/>
          <p:nvPr/>
        </p:nvSpPr>
        <p:spPr>
          <a:xfrm>
            <a:off x="1060560" y="650412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420040" cy="5819760"/>
          </a:xfrm>
          <a:prstGeom prst="rect">
            <a:avLst/>
          </a:prstGeom>
          <a:ln w="0">
            <a:noFill/>
          </a:ln>
        </p:spPr>
      </p:pic>
      <p:sp>
        <p:nvSpPr>
          <p:cNvPr id="1037" name="矩形 2"/>
          <p:cNvSpPr/>
          <p:nvPr/>
        </p:nvSpPr>
        <p:spPr>
          <a:xfrm>
            <a:off x="4357800" y="3643200"/>
            <a:ext cx="39348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3"/>
          <p:cNvSpPr/>
          <p:nvPr/>
        </p:nvSpPr>
        <p:spPr>
          <a:xfrm>
            <a:off x="4143240" y="4500720"/>
            <a:ext cx="3924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642960" y="2286000"/>
            <a:ext cx="8172360" cy="23716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2"/>
          <a:stretch/>
        </p:blipFill>
        <p:spPr>
          <a:xfrm>
            <a:off x="642960" y="1785960"/>
            <a:ext cx="7991280" cy="466560"/>
          </a:xfrm>
          <a:prstGeom prst="rect">
            <a:avLst/>
          </a:prstGeom>
          <a:ln w="0">
            <a:noFill/>
          </a:ln>
        </p:spPr>
      </p:pic>
      <p:sp>
        <p:nvSpPr>
          <p:cNvPr id="1041" name="矩形 6"/>
          <p:cNvSpPr/>
          <p:nvPr/>
        </p:nvSpPr>
        <p:spPr>
          <a:xfrm>
            <a:off x="1893960" y="1832040"/>
            <a:ext cx="39348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7"/>
          <p:cNvSpPr/>
          <p:nvPr/>
        </p:nvSpPr>
        <p:spPr>
          <a:xfrm>
            <a:off x="2286000" y="3286080"/>
            <a:ext cx="392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8"/>
          <p:cNvSpPr/>
          <p:nvPr/>
        </p:nvSpPr>
        <p:spPr>
          <a:xfrm>
            <a:off x="3214800" y="4214880"/>
            <a:ext cx="39204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519120" y="871560"/>
            <a:ext cx="810576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1" descr=""/>
          <p:cNvPicPr/>
          <p:nvPr/>
        </p:nvPicPr>
        <p:blipFill>
          <a:blip r:embed="rId1"/>
          <a:stretch/>
        </p:blipFill>
        <p:spPr>
          <a:xfrm>
            <a:off x="461880" y="747720"/>
            <a:ext cx="822024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47840" y="1428840"/>
            <a:ext cx="8248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8:0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